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682-F895-49B6-96B1-F4E40658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0B5-672C-4EEB-A5A7-8B1E28A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4EB-FDBF-4F3D-BC74-E11CCBB3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14C-BD08-4B1B-A1B4-F81F606E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4DD-3F1B-46AF-9F66-8AA1802D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6E2-0AAC-41E5-9420-7CE4B8B2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E57-D3D1-47EE-BB73-09F259F5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0D4-9C21-430C-8AE3-92F1355A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5CA-1B9C-4CDD-A513-8194597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47A-07C7-44E3-916B-94DA16D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28F-5BD4-4322-B690-78284B82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FC5-BC6F-4BC3-8AA3-B7BDA70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F44-7283-44E7-A619-628256E92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amaha.com/yamahavgn/CDA/List/MediaList/0,,CNTID%25253D559535%252526CTID%25253D203600,00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VP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600200"/>
            <a:ext cx="6162480" cy="4938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6094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efferson Elementary School's Composers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43400" y="1143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compose their own music using skills learned during their music cl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038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read and write music using staff notation on paper and with staff notation softw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441972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input their composi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play back their composition and edit it by choosing orchestration, dynamics, tempo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compile all "tracks" into one pie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"burn" the completed work onto a CD that can be played on a CD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receive individual copies of the finished composi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666720"/>
            <a:ext cx="5638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42244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143000"/>
            <a:ext cx="8991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 to 8 students would come to the music room from 2:20-3:20 for one we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ents would work in pairs independently and with the teacher to create their compositions using paper and staff notation software.  Sibelius is compatible with the Clavinov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the teacher’s assistance, the students would use the Clavinova to record their compos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completed, all compositions would be merged into one pie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student would receive a copy of the recorded music to take ho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osers Club would run during the “non-performance” months such as January, February, March, and Apr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hundred students divided into ten to twelve groups could potentially meet during this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mall fee ($3.00) might be collected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ver the cost of the CD’s and jewel c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988920" y="30492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he Composers Club Migh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8972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95680" y="1600200"/>
            <a:ext cx="46483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ic Video Clu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would comp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ir own mus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would create a music video using Movie Mak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??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862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09560" y="6094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penses and Fu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Based on Quote from 11/0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ail price: $10,998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ool price: $6495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hanna Education Foundation Grant: $25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A Musical Budget 2008-2009: Balance $12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A Musical Budget 2009-2010: Projected $6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ential Total Funds Available: $43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s Needed: $22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8480" y="198108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Sugges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14:23Z</dcterms:created>
  <dc:creator>Home</dc:creator>
  <dc:description/>
  <dc:language>en-US</dc:language>
  <cp:lastModifiedBy>Leslie Twigg</cp:lastModifiedBy>
  <dcterms:modified xsi:type="dcterms:W3CDTF">2009-06-29T14:55:41Z</dcterms:modified>
  <cp:revision>14</cp:revision>
  <dc:subject/>
  <dc:title>Slide 1</dc:title>
</cp:coreProperties>
</file>